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BB1F-71F4-4B43-8A24-0787531B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473A-92EA-458C-9A7D-747F0F46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7FA1-15B1-40A4-A230-6599030B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D3C8-4F1B-49D7-B1B2-39A42A57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0216-63B0-450D-8C3F-B2EC7B78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5B0B-0DC3-4014-9928-383F653D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9EDC-1DA5-4335-89A6-D98E1911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AB96-965C-471D-AABA-8AE0DC27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10DA-80F7-4B28-A572-D4CE2C98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21AD-7A72-4853-9526-0028E57A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5A1A-0086-4417-8DA9-CA8DCC8B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F8A8-53D4-4861-B2C1-4412541E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9AD6-E269-4C01-823D-25BDC875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E101-B678-4D20-97C0-E4952480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23F2-3D86-4466-93EC-CB29F6CB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0F49-9DC0-4B57-B49A-1D129ABE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2C3C-80C9-481C-9C1C-0B60F77D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99CC-8E64-4382-8A99-D3312B72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AC87-6191-4E2D-AC75-0B5F6732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7BA6-5B40-4618-8AA2-1CDCD7A6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298F-0C73-43A4-B72D-F51E20EF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C7FE-57D2-428C-A54C-9ED35DA0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6D3A-FB54-41C7-AC50-3571372B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9F39-B4A2-4454-9611-307AD4CE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6961-30FE-4D71-9E59-F294757A7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51EB-1116-47DF-BF7D-F3E9D2F985BB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teachercompass.pearsoncmg.com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Student Achievement Through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Teacher Evaluation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. Jane Coughen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. Karen Chapm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r. Michael Mat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tructional Roun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ers are encouraged to infuse specific targeted instructional strategies into their lesson design to increas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teacher eng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student eng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ctional rig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ssment for learn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l obser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er level employees receive a formal observ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 observations were constructed to coincide with the PDE-426 and PDE- 5501 rating form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 employees are evaluated in 4 domai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l Obser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 domains highlighted in formal observation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ning and prepa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room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fessionalis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135"/>
          <p:cNvGraphicFramePr/>
          <p:nvPr/>
        </p:nvGraphicFramePr>
        <p:xfrm>
          <a:off x="2362320" y="228600"/>
          <a:ext cx="512280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28600"/>
                    <a:ext cx="51228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Object 85"/>
          <p:cNvGraphicFramePr/>
          <p:nvPr/>
        </p:nvGraphicFramePr>
        <p:xfrm>
          <a:off x="2209680" y="152280"/>
          <a:ext cx="5011920" cy="648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52280"/>
                    <a:ext cx="5011920" cy="64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l Obser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s 15 minutes in leng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 observations may be conducted on Level II professional employe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mmary is written of components seen during the observ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r looking for components of the district mot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DISCOURSE</a:t>
            </a:r>
            <a:endParaRPr b="0" lang="en-US" sz="8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a personal academic goa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m I to asses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appens if my students don’t show growth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much growth do students need to sh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I receive an unsatisfactory rating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chers’ Academic Go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 must address a standard within the teachers’ grade level and/or academic are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 is to be attainable and not all encompass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 is to be submitted to building administrator for approv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chers’ Academic Go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cher is to collect data by testing students on the academic goal chos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ary teachers tes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teachers test every student of that course /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given at the start of the school ye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data collection tool used after May 15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 to submit data to building principal as evidence of student growth / regress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3"/>
          <p:cNvGraphicFramePr/>
          <p:nvPr/>
        </p:nvGraphicFramePr>
        <p:xfrm>
          <a:off x="2209680" y="304920"/>
          <a:ext cx="4859280" cy="628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04920"/>
                    <a:ext cx="4859280" cy="62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on Committ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ff at McKeesport Area School district worked to create an evaluation process that culminates with a teacher showing evidence of student grow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ct motto “Move, Engage, Assess” drives components of the evaluation proc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evaluation committee includ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stant Superintend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or of Federal Pro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ct Technology Integr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 Me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teachers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676520" y="380880"/>
          <a:ext cx="6705360" cy="5751720"/>
        </p:xfrm>
        <a:graphic>
          <a:graphicData uri="http://schemas.openxmlformats.org/drawingml/2006/table">
            <a:tbl>
              <a:tblPr/>
              <a:tblGrid>
                <a:gridCol w="1676160"/>
                <a:gridCol w="1676520"/>
                <a:gridCol w="1676520"/>
                <a:gridCol w="1676160"/>
              </a:tblGrid>
              <a:tr h="177840"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UDENT NA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LINE SCOR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L SCOR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 / -  GROWT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3328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3328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3328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3148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336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3148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3328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3328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3328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318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39" name="Rectangle 1"/>
          <p:cNvSpPr/>
          <p:nvPr/>
        </p:nvSpPr>
        <p:spPr>
          <a:xfrm>
            <a:off x="3070800" y="2031840"/>
            <a:ext cx="1131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____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715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9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476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cher Compa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teachercompass.pearsoncmg.co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cher Compas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er Compass is an on-line program that houses all district observations / evalu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orts can be generated for individual teachers and the build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eos for professional development are available to attach to teacher observations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cher Compas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 of Teacher Compas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cher li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b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deos for professional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 teacher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 report for Walk-throug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analysis for building / teacher strengths and conc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ion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Central Office Administrator to each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district wide walkthrough and instructional round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ion of a teachers’ personal academic go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f an online software package to collect and analyze data from teacher walkthrough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ve, Engage, Ass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 engagement and discourse drives instruction throug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perative lear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tive assessment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itical thinki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level questio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cher is a facilitator in the classroom, not a lectur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ve, Engage, Ass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drive instruction, not subject content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tive assessment is an essential component of instruction achieved through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whitebo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cket out the d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ur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stion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cher Observation Tool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alk-throug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structional Roun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rmal Observ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formal Observ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achers’ Personal Academic Go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lk-throug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lk-through is conducted 2 or 3 times monthly for each teac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s only 5 minutes in leng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r looking for components of district motto “Move, Engage, Assess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lk-through is not evaluativ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10"/>
          <p:cNvGraphicFramePr/>
          <p:nvPr/>
        </p:nvGraphicFramePr>
        <p:xfrm>
          <a:off x="2133720" y="228600"/>
          <a:ext cx="4952880" cy="64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28600"/>
                    <a:ext cx="495288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tructional Roun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ct motto drives what is observed during an Instructional Rou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ctional rounds may consist of a principal, curriculum director, teacher(s), and/or central administra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ctional rounds last 20 minu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 group discussion to discuss group members’ observation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23:57:34Z</dcterms:created>
  <dc:creator>user</dc:creator>
  <dc:description/>
  <dc:language>en-US</dc:language>
  <cp:lastModifiedBy>ChapmanK</cp:lastModifiedBy>
  <dcterms:modified xsi:type="dcterms:W3CDTF">2012-03-21T17:22:22Z</dcterms:modified>
  <cp:revision>32</cp:revision>
  <dc:subject/>
  <dc:title>Student Achievement Through Teacher Evaluation </dc:title>
</cp:coreProperties>
</file>